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662-C1B7-43E5-887C-4BE08170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E34-BC71-4524-A8FE-E7AB84C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C91-6786-44EF-8649-A1DB0851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6A6-1FAF-475D-834A-5375F048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1DA-4B59-4BAD-9140-5F6CA39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9E9-9AF2-47B1-B770-666098B7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DDB-C0BA-489B-9640-1AE6505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CAC-A50A-41D0-9855-221C433F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1DD-CCCF-4BB4-AB7A-A350EB6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912-B3FB-4D33-978C-4436088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3A5-E601-43E5-8A96-3593FA7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50D-D581-4B32-9191-8E8954D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4BF6-149E-4E35-A7EB-1A6F972C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843280" y="11430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1430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8600" y="1447920"/>
          <a:ext cx="4698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44792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119640" y="2278080"/>
          <a:ext cx="50976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9640" y="227808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99088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99088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843280" y="4133880"/>
          <a:ext cx="3657600" cy="12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413388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4438800"/>
          <a:ext cx="4698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43880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119640" y="5268960"/>
          <a:ext cx="509760" cy="8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9640" y="526896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8600" y="5867280"/>
          <a:ext cx="3809880" cy="136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586728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43280" y="7010280"/>
          <a:ext cx="3657600" cy="128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43280" y="701028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8600" y="7315200"/>
          <a:ext cx="4698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8600" y="731520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119640" y="8145360"/>
          <a:ext cx="509760" cy="82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19640" y="8145360"/>
                    <a:ext cx="50976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843280" y="11430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1430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28600" y="3067200"/>
          <a:ext cx="38098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06720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843280" y="4210200"/>
          <a:ext cx="3657600" cy="12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21020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" y="596268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596268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843280" y="7105680"/>
          <a:ext cx="3657600" cy="12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710568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01520" y="1523880"/>
          <a:ext cx="81288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1520" y="152388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892840" y="2514600"/>
          <a:ext cx="81288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92840" y="25146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01520" y="4648320"/>
          <a:ext cx="812880" cy="63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520" y="46483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892840" y="5562720"/>
          <a:ext cx="812880" cy="637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2840" y="55627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01520" y="7467480"/>
          <a:ext cx="812880" cy="63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1520" y="746748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943600" y="8458200"/>
          <a:ext cx="812880" cy="63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3600" y="84582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45:04Z</dcterms:created>
  <dc:creator>Dina Winterton</dc:creator>
  <dc:description/>
  <dc:language>en-US</dc:language>
  <cp:lastModifiedBy>Dina Winterton</cp:lastModifiedBy>
  <dcterms:modified xsi:type="dcterms:W3CDTF">2009-04-29T17:50:05Z</dcterms:modified>
  <cp:revision>1</cp:revision>
  <dc:subject/>
  <dc:title>Slide 1</dc:title>
</cp:coreProperties>
</file>